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A77339-88FB-41AC-9A18-D9661973F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B48-30B3-44A7-A18F-E7EA5956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C55-E64C-4C9F-9901-C018E11D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690-0FD2-4ABF-9DE8-7AF1013B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4E1-C27D-4B2A-8090-5477D659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152-2AEF-4A3C-8F44-5E4668C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A5C-53C1-463B-AB24-3E22C572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FB5-1DCE-46D3-A107-0FCB60A6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21C-18BE-4326-A440-CCEABCC4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231-A41C-418C-803F-C9E8C1D7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CDA-C53F-41AF-B4D8-B27D249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CD1-8B1E-4DCC-82CB-0A4A294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D08-0CB3-49D0-8ABE-3849C4E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1593A-9092-4409-9FA7-C7EE51C1FF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92360" y="692280"/>
            <a:ext cx="5184720" cy="20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questa</a:t>
            </a:r>
            <a:endParaRPr b="0" lang="en-US" sz="1800" spc="1" strike="noStrike">
              <a:ln w="0">
                <a:noFill/>
              </a:ln>
              <a:solidFill>
                <a:srgbClr val="33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92360" y="2592360"/>
            <a:ext cx="5184720" cy="40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è és un odontò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metge dels u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 metge de les 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metge dels inf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s angles té un icosàg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es cares té un icositetraed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’on provè el nom Argent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pe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’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 la pl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18414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2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è vol dir “isòm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8840" indent="-52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 c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8840" indent="-52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s ig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8840" indent="-52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è és una “ignició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Una combusti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Alguna cosa que no c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Alguna cosa que viu del f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è vol dir l’ètim “fo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Ra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l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F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1528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è és un “selenit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Algú que li agrada molt la Ll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   Un astrona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Un hipotètic habitant de la Ll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 és l’uranòl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El metge dels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Algú que estudia el 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Un habitant hipotètic d’Ur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è és una “calcotec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Un lloc on hi ha molta 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Un sinònim de bibliote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Un dipòsit de bronz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18478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33cccc"/>
                </a:solidFill>
                <a:uFillTx/>
                <a:latin typeface="Arial"/>
              </a:rPr>
              <a:t>Enque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lvia 43 anys: 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ma 15 anys: 5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42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ra 15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ta 16 anys: 5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iana 16 anys: 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18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ina 15 anys: 4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 43 anys: 5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llem 23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ía 20 anys: 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cè 47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ana 18 anys: 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aquín 4 anys: 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i Carmen 37 anys: 5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ostina 14 anys: 5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 18 anys: 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za 14 anys: 4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16360" y="2209680"/>
            <a:ext cx="3527640" cy="33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33cccc"/>
                </a:solidFill>
                <a:uFillTx/>
                <a:latin typeface="Arial"/>
              </a:rPr>
              <a:t>Re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2" name=""/>
            <p:cNvSpPr/>
            <p:nvPr/>
          </p:nvSpPr>
          <p:spPr>
            <a:xfrm>
              <a:off x="6697800" y="567216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,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07000" y="567216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,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9440" y="567216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567216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ntat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97800" y="521964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7000" y="521964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19440" y="521964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521964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97800" y="476892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07000" y="476892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19440" y="476892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476892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7800" y="4314960"/>
              <a:ext cx="1989000" cy="452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07000" y="4314960"/>
              <a:ext cx="1989000" cy="452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19440" y="4314960"/>
              <a:ext cx="1987560" cy="452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4314960"/>
              <a:ext cx="2262240" cy="452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97800" y="386244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07000" y="386244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9440" y="386244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386244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97800" y="340992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07000" y="340992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9440" y="340992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340992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97800" y="295740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07000" y="295740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9440" y="295740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95740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97800" y="2505240"/>
              <a:ext cx="1989000" cy="452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7000" y="2505240"/>
              <a:ext cx="1989000" cy="452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19440" y="2505240"/>
              <a:ext cx="1987560" cy="452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2505240"/>
              <a:ext cx="2262240" cy="452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97800" y="205272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07000" y="205272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9440" y="205272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205272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7800" y="1600200"/>
              <a:ext cx="1989000" cy="452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a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7000" y="1600200"/>
              <a:ext cx="1989000" cy="452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a 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19440" y="1600200"/>
              <a:ext cx="1987560" cy="452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a 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1600200"/>
              <a:ext cx="2262240" cy="45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205272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1944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07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978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2505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2957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40992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38624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431496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476892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5219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567216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33cccc"/>
                </a:solidFill>
                <a:uFillTx/>
                <a:latin typeface="Arial"/>
              </a:rPr>
              <a:t>Ta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1611360"/>
          <a:ext cx="777708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11360"/>
                    <a:ext cx="7777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96848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33cccc"/>
                </a:solidFill>
                <a:uFillTx/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 resultats de fer una enquesta de 10 preguntes a 18 persones, han demostrat que els joves de 18 a 24 anys són els que més coneixements tenen sobre les arrels clàssiques del lèxic científic, tècnic i humanístic. Li segueixen els adults de 30 a 50 anys, i en última posició les persones de 4 a 17 a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a mi aquests resultats demostren que aquests coneixements s’assoleixen plenament a partir dels 18 anys i aquesta etapa finalitza als 30, ja que a partir d’aquesta edat s’utilitzen menys d’aquests tipus de coneixements, i per tant es van oblidant. També penso que els resultats de les persones de 4 a 17 anys són bastant lògics, ja que en aquesta etapa no se sol tenir consciència de determinats mots per falta d’explicac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117144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blo</dc:creator>
  <dc:description/>
  <dc:language>en-US</dc:language>
  <cp:lastModifiedBy>Pablo</cp:lastModifiedBy>
  <cp:revision>0</cp:revision>
  <dc:subject/>
  <dc:title>Diapositiva 1</dc:title>
</cp:coreProperties>
</file>