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DFA8-AD04-445E-B2B5-1C727DBA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E538-B850-4316-B569-084A88EB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BFE5-CF9F-4D15-91D0-4047589E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9F6-828C-4593-BBEC-6FCE874F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4573-EFDC-4061-B859-E5103385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BA7B-E0CA-47E1-A528-6232D8D5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971C-B037-4069-B621-3F2714D5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C9C5-A865-4EB3-9160-82D0DF19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B244-D1E9-4580-A52F-9AB8E98C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E21E-15EF-4469-8C41-23A061C5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6934-D362-40FD-9B55-A0B4F08C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131-2110-4D38-92CA-1FA1ABBC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D63A-F0A2-4FDF-813C-D3FEF3B4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01C1-D07F-483C-978C-B5571A96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D573-B19A-4637-9F1A-ABA97320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7D88-FED5-4318-AC6A-6B28E925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3399-92FA-4C2B-9FB4-CE280B5E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5058-06A5-4762-905A-AD7DFB6F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242-393C-4D2C-9821-4D46CD86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C0D-0EAA-427B-ACC5-3FCF3DFF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4E4-D551-4B09-A55C-A39497A6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1F2-394C-4944-88BC-99B18320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5A6-3669-47CE-8C21-2004423E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1D6C-6838-473C-A58C-F90629EC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339B-1D0E-4007-8DC2-AEF675976E95}" type="slidenum">
              <a:rPr b="0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52E1-2D37-4EAD-BE66-6CE18FB06459}" type="slidenum">
              <a:rPr b="0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cc"/>
                </a:solidFill>
                <a:latin typeface="Tahoma"/>
              </a:rPr>
              <a:t>Unitats mitològiques</a:t>
            </a:r>
            <a:br>
              <a:rPr sz="5400"/>
            </a:br>
            <a:r>
              <a:rPr b="1" lang="es-ES" sz="5400" spc="-1" strike="noStrike">
                <a:solidFill>
                  <a:srgbClr val="ffffcc"/>
                </a:solidFill>
                <a:latin typeface="Tahoma"/>
              </a:rPr>
              <a:t>a </a:t>
            </a:r>
            <a:r>
              <a:rPr b="1" i="1" lang="es-ES" sz="5400" spc="-1" strike="noStrike">
                <a:solidFill>
                  <a:srgbClr val="ffffcc"/>
                </a:solidFill>
                <a:latin typeface="Tahoma"/>
              </a:rPr>
              <a:t>Age of Mitholog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943600" y="4935600"/>
            <a:ext cx="6400800" cy="19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ES Cristòfol Ferr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urs 2008/200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ric Sánche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rta Gij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ric Miqu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Introducció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da cultura t</a:t>
            </a: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unitats mitològiques que tenen poders especials que es basen en els mi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oltes d’aquestes unitats tenen una limitació ja que no poden ha</a:t>
            </a: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r </a:t>
            </a: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d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heroi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en un mateix exèrc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Tahoma"/>
              </a:rPr>
              <a:t>Nòrd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roll, valkiria, </a:t>
            </a: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porc sengla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de batalla, gegant d'escarxa, gegant de foc, fenris, angula de Jormund, einheriar, kraken, gegant de les m</a:t>
            </a: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ntanyes, cor</a:t>
            </a: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06880" y="0"/>
            <a:ext cx="5037120" cy="5805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4724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124600" y="2421000"/>
            <a:ext cx="4019400" cy="4437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0" y="2841480"/>
            <a:ext cx="5364000" cy="4016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Tahoma"/>
              </a:rPr>
              <a:t>Egipc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finx, udjat, petsuchos, roc, escarabat, ven</a:t>
            </a: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j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or, fill d‘</a:t>
            </a: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ris, m</a:t>
            </a: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ò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ia, ser</a:t>
            </a: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d‘</a:t>
            </a: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nubis, leviatà, home escorpí, fènix, tortuga de guerr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64000" y="2286000"/>
            <a:ext cx="3780000" cy="457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219640" y="0"/>
            <a:ext cx="3924360" cy="4724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0" y="2898720"/>
            <a:ext cx="41403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Tahoma"/>
              </a:rPr>
              <a:t>Gre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Grecs: Minotaure, centaure, carcinos, mantícora, hidra, escil</a:t>
            </a: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·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, colòs, medusa, cíclop, lleó de Nemea, quimera, pegàs, ca</a:t>
            </a: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llet de m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52840" cy="4572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987640" y="1335240"/>
            <a:ext cx="6156360" cy="5522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3059280" cy="3573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211640" y="0"/>
            <a:ext cx="4932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2916360" y="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200" spc="-1" strike="noStrike">
                <a:solidFill>
                  <a:srgbClr val="ffffff"/>
                </a:solidFill>
                <a:latin typeface="Tahoma"/>
              </a:rPr>
              <a:t>FI</a:t>
            </a:r>
            <a:endParaRPr b="0" lang="en-US" sz="9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21:37:15Z</dcterms:created>
  <dc:creator>Eric</dc:creator>
  <dc:description/>
  <dc:language>en-US</dc:language>
  <cp:lastModifiedBy>MARGA</cp:lastModifiedBy>
  <dcterms:modified xsi:type="dcterms:W3CDTF">2009-06-22T04:39:15Z</dcterms:modified>
  <cp:revision>4</cp:revision>
  <dc:subject/>
  <dc:title>Unitats mitològiques</dc:title>
</cp:coreProperties>
</file>