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003-0383-487A-AFCC-B007F89E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D21-FB5C-48F7-9975-5DCB01E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B69-7BC6-4DC4-9D6D-FAE91B7A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362-D037-4966-8D68-B8B86086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63B-6ABB-4754-919E-8DA54FF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5D0-2E0F-4884-9998-F023BE05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EAD-1CB0-4661-BC2B-423742A6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A71-2739-4A02-AFD1-2AEC77D2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A5C-6876-4676-9F94-3A57BF32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7CA-EABA-48F0-9D01-2B5476B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ACE-9B59-426F-BE2A-CB60D07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5BB-5531-4FCC-9D5A-6C31572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C884-56D2-460A-84DE-535B08A34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l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762120"/>
            <a:ext cx="6629400" cy="42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9600" spc="-1" strike="noStrike">
                <a:solidFill>
                  <a:srgbClr val="000000"/>
                </a:solidFill>
                <a:latin typeface="Edwardian Script ITC"/>
              </a:rPr>
              <a:t>Mitologia Grega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b2b2b2"/>
                </a:solidFill>
                <a:uFillTx/>
                <a:latin typeface="Century Gothic"/>
              </a:rPr>
              <a:t>Deessa Persèfone.</a:t>
            </a:r>
            <a:r>
              <a:rPr b="0" lang="ca-ES" sz="5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roserpin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066680" y="0"/>
            <a:ext cx="5537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roserpina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606840" y="0"/>
            <a:ext cx="55371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685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entury Gothic"/>
              </a:rPr>
              <a:t>Persèfone, dea de les estacions de l’any.</a:t>
            </a:r>
            <a:r>
              <a:rPr b="0" lang="ca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roserpina" descr=""/>
          <p:cNvPicPr/>
          <p:nvPr/>
        </p:nvPicPr>
        <p:blipFill>
          <a:blip r:embed="rId3"/>
          <a:stretch/>
        </p:blipFill>
        <p:spPr>
          <a:xfrm>
            <a:off x="-304920" y="2286000"/>
            <a:ext cx="2460600" cy="304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62520" y="1676520"/>
            <a:ext cx="441936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Nom grec: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Persèfone.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Quan Persèfone era jove s'anomenava Core que significa «donzella».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Nom romà: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Prosèrp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Atributs: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 sol representar com una noia jove amb un ram de narcisos a la mà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, una magrana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o asseguda en un tron de fusta (com a reina dels Inferns) o també al costat d'Hades, dalt d'un carro tirat per quatre cavalls neg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80px-Dante_Gabriel_Rossetti_-_Proserpine" descr=""/>
          <p:cNvPicPr/>
          <p:nvPr/>
        </p:nvPicPr>
        <p:blipFill>
          <a:blip r:embed="rId4"/>
          <a:stretch/>
        </p:blipFill>
        <p:spPr>
          <a:xfrm>
            <a:off x="2133720" y="2286000"/>
            <a:ext cx="1403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008449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2008449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19520" y="0"/>
            <a:ext cx="34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2008449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688000" y="0"/>
            <a:ext cx="34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20084493" descr=""/>
          <p:cNvPicPr/>
          <p:nvPr/>
        </p:nvPicPr>
        <p:blipFill>
          <a:blip r:embed="rId4"/>
          <a:stretch/>
        </p:blipFill>
        <p:spPr>
          <a:xfrm>
            <a:off x="1447920" y="1600200"/>
            <a:ext cx="211140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67080" y="1447920"/>
            <a:ext cx="35053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Caràcter: 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ra jove, alegre i innocent</a:t>
            </a: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estimava  la seva mare però tenia moltes ganes de fer-se gran i enamorar-se. Era bona filla i bona espos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Genealogia:</a:t>
            </a:r>
            <a:r>
              <a:rPr b="0" lang="ca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filla de Zeus i de Demè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 u="sng">
                <a:solidFill>
                  <a:srgbClr val="000000"/>
                </a:solidFill>
                <a:uFillTx/>
                <a:latin typeface="Century Gothic"/>
              </a:rPr>
              <a:t>Poder: </a:t>
            </a: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Persèfone tenia el poder de fer passar els vius al regne dels morts només tallant-se un cab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0078401127_bernini_proserpin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4827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20078401127_bernini_proserpina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52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Century Gothic"/>
              </a:rPr>
              <a:t>La seva història: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84582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Hades, déu del món subterrani, estava enamorat d'ella i un dia que </a:t>
            </a:r>
            <a:r>
              <a:rPr b="0" lang="ca-ES" sz="1600" spc="-1" strike="noStrike">
                <a:solidFill>
                  <a:srgbClr val="000000"/>
                </a:solidFill>
                <a:latin typeface="Century Gothic"/>
              </a:rPr>
              <a:t>Persèfone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va sortir a recollir flors, Hades la va raptar per convertir-la en la seva esposa. Quan Demèter es va adonar que la seva filla havia desaparegut, es va posar a buscar-la arreu del món durant nou dies i nou nits, però no la va trobar. Al final va demanar ajuda a Zeus, que li va explicar el que havia passat i que </a:t>
            </a:r>
            <a:r>
              <a:rPr b="0" lang="ca-ES" sz="1600" spc="-1" strike="noStrike">
                <a:solidFill>
                  <a:srgbClr val="000000"/>
                </a:solidFill>
                <a:latin typeface="Century Gothic"/>
              </a:rPr>
              <a:t>Persèfone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ja no era una donzella sinó l'esposa d'Hade</a:t>
            </a:r>
            <a:r>
              <a:rPr b="0" lang="ca-E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. Això va fer enrabiar Demèter i, com que era la deessa de la fertilitat de la terra, va prohibir que les plantes creixessin i aviat tot el món va ser un desert. Al final, Zeus va ordenar a Hades que retornés Persèfone a la seva mare, però això ja no era possible perquè, mentre Persèfone havia estat als Inferns, havia menjat sis grans d'una magrana i tot aquell que provava l'aliment dels morts ja no podia abandonar aquell món. Però com que Persèfone només havia menjat sis grans, es va acordar que podria passar 6 mesos de l'any al món dels vius i l'altra meitat de l'any al món dels morts</a:t>
            </a:r>
            <a:r>
              <a:rPr b="0" lang="ca-E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0078401127_bernini_proserpina" descr=""/>
          <p:cNvPicPr/>
          <p:nvPr/>
        </p:nvPicPr>
        <p:blipFill>
          <a:blip r:embed="rId3"/>
          <a:stretch/>
        </p:blipFill>
        <p:spPr>
          <a:xfrm>
            <a:off x="3581280" y="4267080"/>
            <a:ext cx="1730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roserpina" descr=""/>
          <p:cNvPicPr/>
          <p:nvPr/>
        </p:nvPicPr>
        <p:blipFill>
          <a:blip r:embed="rId1"/>
          <a:stretch/>
        </p:blipFill>
        <p:spPr>
          <a:xfrm>
            <a:off x="4724280" y="0"/>
            <a:ext cx="553716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20078401127_bernini_proserpina" descr=""/>
          <p:cNvPicPr/>
          <p:nvPr/>
        </p:nvPicPr>
        <p:blipFill>
          <a:blip r:embed="rId2"/>
          <a:stretch/>
        </p:blipFill>
        <p:spPr>
          <a:xfrm>
            <a:off x="2362320" y="0"/>
            <a:ext cx="48290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20084493" descr=""/>
          <p:cNvPicPr/>
          <p:nvPr/>
        </p:nvPicPr>
        <p:blipFill>
          <a:blip r:embed="rId3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0" y="5486400"/>
            <a:ext cx="3048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Century Gothic"/>
              </a:rPr>
              <a:t>Marina</a:t>
            </a:r>
            <a:r>
              <a:rPr b="0" lang="ca-ES" sz="2400" spc="-1" strike="noStrike">
                <a:solidFill>
                  <a:srgbClr val="000000"/>
                </a:solidFill>
                <a:latin typeface="Century Gothic"/>
              </a:rPr>
              <a:t> Caimel Vil</a:t>
            </a:r>
            <a:r>
              <a:rPr b="0" lang="ca-ES" sz="2400" spc="-1" strike="noStrike">
                <a:solidFill>
                  <a:srgbClr val="ffffff"/>
                </a:solidFill>
                <a:latin typeface="Century Gothic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Century Gothic"/>
              </a:rPr>
              <a:t>3r ESO  C.Clàs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Century Gothic"/>
              </a:rPr>
              <a:t>IES Cristòfol Fer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80px-Dante_Gabriel_Rossetti_-_Proserpine" descr=""/>
          <p:cNvPicPr/>
          <p:nvPr/>
        </p:nvPicPr>
        <p:blipFill>
          <a:blip r:embed="rId4"/>
          <a:stretch/>
        </p:blipFill>
        <p:spPr>
          <a:xfrm>
            <a:off x="0" y="3133800"/>
            <a:ext cx="1714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2:37:11Z</dcterms:created>
  <dc:creator>Quim</dc:creator>
  <dc:description/>
  <dc:language>en-US</dc:language>
  <cp:lastModifiedBy>Margalida Capellà</cp:lastModifiedBy>
  <dcterms:modified xsi:type="dcterms:W3CDTF">2008-02-26T05:03:31Z</dcterms:modified>
  <cp:revision>5</cp:revision>
  <dc:subject/>
  <dc:title>Mitologia grega.</dc:title>
</cp:coreProperties>
</file>