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147-810D-4B6B-95A5-68CE71AC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63F-C704-4045-89EC-DEB3A3A2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78B-EE9F-4C65-8D7A-D1692AEC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99A-EAA3-4EF2-9A72-BD8E5CDC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40A-5D3A-40E7-A755-A7DFDB45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3AB-9DE7-46E0-B002-57F48B67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9D4-C35A-4EE7-BC51-B3162AE5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4C84-F1B9-4C91-B071-D2F0A66E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166-1CB0-46DA-9311-E4F76092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465-7ED7-439A-9761-1BC9E42E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536-27CE-4C04-8CD9-412C377C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C59-376A-4A39-B117-52A96F15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B83C-FF38-448C-B388-6D768AF61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ducared.net/concurso2001/793/Matrimonio.htm" TargetMode="External"/><Relationship Id="rId3" Type="http://schemas.openxmlformats.org/officeDocument/2006/relationships/hyperlink" Target="http://www.educared.net/concurso2001/793/Matrimonio.htm" TargetMode="External"/><Relationship Id="rId4" Type="http://schemas.openxmlformats.org/officeDocument/2006/relationships/hyperlink" Target="http://www.educared.net/concurso2001/793/Matrimonio.htm" TargetMode="External"/><Relationship Id="rId5" Type="http://schemas.openxmlformats.org/officeDocument/2006/relationships/hyperlink" Target="http://www.educared.net/concurso2001/793/Matrimonio.htm" TargetMode="External"/><Relationship Id="rId6" Type="http://schemas.openxmlformats.org/officeDocument/2006/relationships/hyperlink" Target="http://xtec.es/~sgiralt/labyrinthus/graecia/atenes/bios4.htm" TargetMode="External"/><Relationship Id="rId7" Type="http://schemas.openxmlformats.org/officeDocument/2006/relationships/hyperlink" Target="http://www.wikipedia.com/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mor_de_madretreball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1371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6600" spc="-1" strike="noStrike">
                <a:solidFill>
                  <a:srgbClr val="808080"/>
                </a:solidFill>
                <a:latin typeface="Edwardian Script ITC"/>
              </a:rPr>
              <a:t>El matrimoni, la dona i els fill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4572000"/>
            <a:ext cx="40388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Edwardian Script ITC"/>
              </a:rPr>
              <a:t>Nom:</a:t>
            </a: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Marina Caim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Edwardian Script ITC"/>
              </a:rPr>
              <a:t>Curs:</a:t>
            </a: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3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Edwardian Script ITC"/>
              </a:rPr>
              <a:t>Centre:</a:t>
            </a: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Cristòfol Ferr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Edwardian Script ITC"/>
              </a:rPr>
              <a:t>Assignatura:</a:t>
            </a: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Cultura Clàssica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od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685800" y="0"/>
            <a:ext cx="10287000" cy="6837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049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22860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Edwardian Script ITC"/>
              </a:rPr>
              <a:t>El matrimoni.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066680"/>
            <a:ext cx="838188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 u="sng">
                <a:solidFill>
                  <a:srgbClr val="000000"/>
                </a:solidFill>
                <a:uFillTx/>
                <a:latin typeface="Century Gothic"/>
              </a:rPr>
              <a:t>El matrimoni a Grècia</a:t>
            </a:r>
            <a:r>
              <a:rPr b="0" lang="ca-ES" sz="1800" spc="-1" strike="noStrike">
                <a:solidFill>
                  <a:srgbClr val="000000"/>
                </a:solidFill>
                <a:latin typeface="Century Gothic"/>
              </a:rPr>
              <a:t>. A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 la noia grega li arribava l’edat de casar-se als 14-15 i al noi els 20. El ritual de la boda consistia en fer un sacrifici per a les divinitats que s’encarregarien de que aquella relació anés bé. Després de que això acabés, s’acostaven a la font </a:t>
            </a:r>
            <a:r>
              <a:rPr b="0" lang="es-ES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Calírroe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 per purificar la celebració. Es celebrava el banquet a casa d’un dels dos i durava fins el vespre. Després del banquet la mare de la noia i la resta de convidats es dirigien a la nova casa dels promesos i cantaven himnes. Allà, la mare del marit donava a la jove un tros de codony com a símbol de fecundit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 u="sng">
                <a:solidFill>
                  <a:srgbClr val="000000"/>
                </a:solidFill>
                <a:uFillTx/>
                <a:latin typeface="Century Gothic"/>
              </a:rPr>
              <a:t>El matrimoni a Roma.</a:t>
            </a:r>
            <a:r>
              <a:rPr b="0" lang="ca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A la noia romana li arribava l’edat de casar-se als 12 anys i els nois els 14 i 16. Durant els primers temps de la República el matrimoni el decidien els pares sense tenir en compte l’opinió dels fills. En temps de l’imperi s’exigia també el consentiment dels contraents. A Roma el matrimoni era un acte per el qual no es requeria la invitació de cap autoritat civil ni religiosa. La cerimònia era un dels esdeveniments més importants a la vida familiar. Abans del matrimoni els nuvis es comprometien davant de testimonis i s’intercanviaven regals. Els pares oferien un sacrifici i a continuació es feien els auspicis. Si eren favorables la boda seguia, si no ho eren se suspenia. Hi havia un sopar nupcial i després tenia lloc el rapte de la núvia, que es refugiava als braços de la seva mare, dels quals el nuvi fingia arrancar-la amb violè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ca-ES" sz="1800" spc="-1" strike="noStrike" u="sng">
                <a:solidFill>
                  <a:srgbClr val="000000"/>
                </a:solidFill>
                <a:uFillTx/>
                <a:latin typeface="Century Gothic"/>
              </a:rPr>
              <a:t>El matrimoni al segle XXI. 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En el segle XXI, el matrimoni pot ser religiós (per l'església) o ateu (pel jutjat). És un esdeveniment important ja que els contraents després d’això començaran la seva nova vida com a marit i muller. El fi essencial del matrimoni ja no és tenir fills, sinó que tan el noi com la noia, decideixen fer-ho perquè s’estim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vorci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7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38088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r>
              <a:rPr b="0" lang="ca-ES" sz="4400" spc="-1" strike="noStrike">
                <a:solidFill>
                  <a:srgbClr val="000000"/>
                </a:solidFill>
                <a:latin typeface="Edwardian Script ITC"/>
              </a:rPr>
              <a:t>El divorc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371600"/>
            <a:ext cx="8381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Els grecs i els romans ja practicaven el divorci. Això no obstant, no degué ser una actitud ni gaire freqüent, ni gaire acceptada. A Roma a la fi de la República, en generalitzar-se el matrimoni </a:t>
            </a:r>
            <a:r>
              <a:rPr b="0" i="1" lang="ca-ES" sz="1400" spc="-1" strike="noStrike">
                <a:solidFill>
                  <a:srgbClr val="000000"/>
                </a:solidFill>
                <a:latin typeface="Century Gothic"/>
              </a:rPr>
              <a:t>sine manu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, el divorci esdevé molt més freqü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Només el marit podia repudiar la don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04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048120"/>
            <a:ext cx="5257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 </a:t>
            </a:r>
            <a:r>
              <a:rPr b="0" lang="ca-ES" sz="4400" spc="-1" strike="noStrike">
                <a:solidFill>
                  <a:srgbClr val="000000"/>
                </a:solidFill>
                <a:latin typeface="Edwardian Script ITC"/>
                <a:ea typeface="Times New Roman"/>
              </a:rPr>
              <a:t>El divorci del segle</a:t>
            </a:r>
            <a:r>
              <a:rPr b="0" lang="ca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XX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724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4572000"/>
            <a:ext cx="815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El divorci al segle XXI s’ha convertit en una cosa molt freqüent. Cada cop hi ha menys famílies que conserven l’estructura, pare, mare i fills. Normalment, quan una parella es divorcia i hi ha fills entre mig, els nens es queden a viure amb la mare i veuen el pare cada 15 dies.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studio-bebes-01" descr=""/>
          <p:cNvPicPr/>
          <p:nvPr/>
        </p:nvPicPr>
        <p:blipFill>
          <a:blip r:embed="rId1"/>
          <a:stretch/>
        </p:blipFill>
        <p:spPr>
          <a:xfrm>
            <a:off x="0" y="127080"/>
            <a:ext cx="12115800" cy="6730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3808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r>
              <a:rPr b="0" lang="ca-ES" sz="4400" spc="-1" strike="noStrike">
                <a:solidFill>
                  <a:srgbClr val="000000"/>
                </a:solidFill>
                <a:latin typeface="Edwardian Script ITC"/>
              </a:rPr>
              <a:t>Els fil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371600"/>
            <a:ext cx="861048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El fi essencial del matrimoni era tenir fills per perpetuar la família i els cultes familiars. Quan naixia un fill, la llevadora el posava als peus del pare. Si aquest l’aixecava del terra, manifestava públicament que l’acceptava; si li donava l’esquena i no l’agafava, el nounat era abandonat a la porta de casa seva. Després de vuit dies si era nena, i nou si era nen, tenia lloc la </a:t>
            </a:r>
            <a:r>
              <a:rPr b="0" i="1" lang="ca-ES" sz="1400" spc="-1" strike="noStrike">
                <a:solidFill>
                  <a:srgbClr val="000000"/>
                </a:solidFill>
                <a:latin typeface="Century Gothic"/>
              </a:rPr>
              <a:t>lustratio,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 una cerimònia per mitjà de la qual el fill s’incorporava a la societat religiosa familiar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Els infants rebien una educació, les noies per ser unes bones mares (normalment eren ensenyades per les dones de la casa) i els nois per ser uns bons solda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GludGNyZTI=_53094_6586_1" descr=""/>
          <p:cNvPicPr/>
          <p:nvPr/>
        </p:nvPicPr>
        <p:blipFill>
          <a:blip r:embed="rId1"/>
          <a:stretch/>
        </p:blipFill>
        <p:spPr>
          <a:xfrm>
            <a:off x="396252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bustodeunaromanaescultugl9" descr=""/>
          <p:cNvPicPr/>
          <p:nvPr/>
        </p:nvPicPr>
        <p:blipFill>
          <a:blip r:embed="rId2"/>
          <a:stretch/>
        </p:blipFill>
        <p:spPr>
          <a:xfrm>
            <a:off x="0" y="0"/>
            <a:ext cx="44686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2286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r>
              <a:rPr b="0" lang="ca-ES" sz="4400" spc="-1" strike="noStrike">
                <a:solidFill>
                  <a:srgbClr val="000000"/>
                </a:solidFill>
                <a:latin typeface="Edwardian Script ITC"/>
              </a:rPr>
              <a:t>La do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07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91440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19320"/>
            <a:ext cx="8763120" cy="28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 u="sng">
                <a:solidFill>
                  <a:srgbClr val="000000"/>
                </a:solidFill>
                <a:uFillTx/>
                <a:latin typeface="Century Gothic"/>
              </a:rPr>
              <a:t>La dona grega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: La dona grega no tenia drets polítics ni jurídics. En aquests aspectes la seva situació era similar a la d’un esclau, encara que era ella qui dirigia i governava la casa. Des de la infantesa romania, la dona ha estat sempre reclosa a casa.</a:t>
            </a:r>
            <a:r>
              <a:rPr b="0" lang="ca-ES" sz="1800" spc="-1" strike="noStrike" u="sng">
                <a:solidFill>
                  <a:srgbClr val="000000"/>
                </a:solidFill>
                <a:uFillTx/>
                <a:latin typeface="Century 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 u="sng">
                <a:solidFill>
                  <a:srgbClr val="000000"/>
                </a:solidFill>
                <a:uFillTx/>
                <a:latin typeface="Century Gothic"/>
              </a:rPr>
              <a:t>La dona romana:</a:t>
            </a:r>
            <a:r>
              <a:rPr b="0" lang="ca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Des dels primers temps, la dona romana va gaudir de molta més llibertat que la grega, encara que des del punt de vista legal estava sota l’autoritat del pare o del marit o fins i tot dels fill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G_1598" descr=""/>
          <p:cNvPicPr/>
          <p:nvPr/>
        </p:nvPicPr>
        <p:blipFill>
          <a:blip r:embed="rId1"/>
          <a:stretch/>
        </p:blipFill>
        <p:spPr>
          <a:xfrm>
            <a:off x="0" y="0"/>
            <a:ext cx="457668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IMG_1599" descr=""/>
          <p:cNvPicPr/>
          <p:nvPr/>
        </p:nvPicPr>
        <p:blipFill>
          <a:blip r:embed="rId2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522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r>
              <a:rPr b="0" lang="ca-ES" sz="4400" spc="-1" strike="noStrike">
                <a:solidFill>
                  <a:srgbClr val="000000"/>
                </a:solidFill>
                <a:latin typeface="Edwardian Script ITC"/>
              </a:rPr>
              <a:t>La dona del segle </a:t>
            </a:r>
            <a:r>
              <a:rPr b="0" lang="ca-ES" sz="4400" spc="-1" strike="noStrike">
                <a:solidFill>
                  <a:srgbClr val="000000"/>
                </a:solidFill>
                <a:latin typeface="Century Gothic"/>
              </a:rPr>
              <a:t>XX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75248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352680"/>
            <a:ext cx="861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entury Gothic"/>
              </a:rPr>
              <a:t>La dona del segle XXI, encara segueix lluitant per igualtat entre els dos sexes, encara que s’ha avançat molt, queda força camí per recórr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mor_de_madretreball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38088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Edwardian Script ITC"/>
              </a:rPr>
              <a:t>Webgrafia i Bibliogra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419720"/>
            <a:ext cx="8153280" cy="1844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Llibre: Cultura clàssica. Història i societat.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 “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webs: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cc99"/>
                </a:solidFill>
                <a:latin typeface="Century Gothic"/>
              </a:rPr>
              <a:t>- </a:t>
            </a:r>
            <a:r>
              <a:rPr b="0" lang="es-ES" sz="1400" spc="-1" strike="noStrike" u="sng">
                <a:solidFill>
                  <a:srgbClr val="ccccff"/>
                </a:solidFill>
                <a:uFillTx/>
                <a:latin typeface="Century Gothic"/>
                <a:hlinkClick r:id="rId2"/>
              </a:rPr>
              <a:t>http://www.educared.net/ </a:t>
            </a:r>
            <a:r>
              <a:rPr b="0" lang="es-ES" sz="1400" spc="-1" strike="noStrike" u="sng">
                <a:solidFill>
                  <a:srgbClr val="ccccff"/>
                </a:solidFill>
                <a:uFillTx/>
                <a:latin typeface="Century Gothic"/>
                <a:hlinkClick r:id="rId3"/>
              </a:rPr>
              <a:t>Matrimonio.</a:t>
            </a:r>
            <a:r>
              <a:rPr b="0" lang="es-ES" sz="1400" spc="-1" strike="noStrike" u="sng">
                <a:solidFill>
                  <a:srgbClr val="ccccff"/>
                </a:solidFill>
                <a:uFillTx/>
                <a:latin typeface="Century Gothic"/>
                <a:hlinkClick r:id="rId4"/>
              </a:rPr>
              <a:t>htm</a:t>
            </a:r>
            <a:r>
              <a:rPr b="1" lang="ca-ES" sz="1400" spc="-1" strike="noStrike">
                <a:solidFill>
                  <a:srgbClr val="00cc99"/>
                </a:solidFill>
                <a:latin typeface="Century Gothic"/>
              </a:rPr>
              <a:t> </a:t>
            </a:r>
            <a:r>
              <a:rPr b="0" lang="es-ES" sz="1400" spc="-1" strike="noStrike" u="sng">
                <a:solidFill>
                  <a:srgbClr val="ccccff"/>
                </a:solidFill>
                <a:uFillTx/>
                <a:latin typeface="Century Gothic"/>
                <a:hlinkClick r:id="rId5"/>
              </a:rPr>
              <a:t>concurso2001/793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cc99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Century Gothic"/>
                <a:hlinkClick r:id="rId6"/>
              </a:rPr>
              <a:t>http://xtec.es/~sgiralt/labyrinthus/graecia/atenes/bios4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 u="sng">
                <a:solidFill>
                  <a:srgbClr val="ccccff"/>
                </a:solidFill>
                <a:uFillTx/>
                <a:latin typeface="Century Gothic"/>
                <a:hlinkClick r:id="rId7"/>
              </a:rPr>
              <a:t>http://www.wikipedia.com</a:t>
            </a:r>
            <a:r>
              <a:rPr b="0" lang="ca-ES" sz="14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1:26:16Z</dcterms:created>
  <dc:creator>Quim</dc:creator>
  <dc:description/>
  <dc:language>en-US</dc:language>
  <cp:lastModifiedBy>MARGA</cp:lastModifiedBy>
  <dcterms:modified xsi:type="dcterms:W3CDTF">2008-04-14T05:40:53Z</dcterms:modified>
  <cp:revision>11</cp:revision>
  <dc:subject/>
  <dc:title>Presentación de PowerPoint</dc:title>
</cp:coreProperties>
</file>