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A97-7CEB-4C62-A1D7-8963FB2F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9C0B-1360-4EB3-9581-20DBE659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7A6F-EEEE-4B1E-83DA-B91DCB63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866C-C29B-479C-8A4C-68B5BD42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52E6-90A2-4C6A-8756-F2327739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AA1F-64C3-4295-8B3C-5498C4BB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074A-AB6D-4FB5-8668-77F9864F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BAB5-ABF3-44AF-8051-30449AF3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72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DB8-FA23-4B50-B4C7-8CFAF11E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329-0938-441E-A343-A3DCF816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F45-016A-4745-A2BF-C3ED294A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72BF-2956-460F-944E-CEFAF5DF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7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4FA1-3748-4E87-A421-992A69209F0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9640" y="441360"/>
            <a:ext cx="9180720" cy="67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b8ff"/>
                </a:solidFill>
                <a:latin typeface="Verdana"/>
                <a:ea typeface="Lucida Sans Unicode"/>
              </a:rPr>
              <a:t>FAULES D'ISO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Victòria Ardiles         1rA        INS Premià de 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b8ff"/>
                </a:solidFill>
                <a:latin typeface="Arial"/>
              </a:rPr>
              <a:t>LLIBRE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43964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Per ser una faula molt coneguda, s'han escrit moltes versions i molts  llib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3 Imagen" descr=""/>
          <p:cNvPicPr/>
          <p:nvPr/>
        </p:nvPicPr>
        <p:blipFill>
          <a:blip r:embed="rId1"/>
          <a:stretch/>
        </p:blipFill>
        <p:spPr>
          <a:xfrm>
            <a:off x="1120680" y="2587680"/>
            <a:ext cx="1579680" cy="2092320"/>
          </a:xfrm>
          <a:prstGeom prst="rect">
            <a:avLst/>
          </a:prstGeom>
          <a:ln w="0">
            <a:noFill/>
          </a:ln>
        </p:spPr>
      </p:pic>
      <p:pic>
        <p:nvPicPr>
          <p:cNvPr id="58" name="4 Imagen" descr=""/>
          <p:cNvPicPr/>
          <p:nvPr/>
        </p:nvPicPr>
        <p:blipFill>
          <a:blip r:embed="rId2"/>
          <a:stretch/>
        </p:blipFill>
        <p:spPr>
          <a:xfrm>
            <a:off x="3419640" y="2568600"/>
            <a:ext cx="1579320" cy="2111400"/>
          </a:xfrm>
          <a:prstGeom prst="rect">
            <a:avLst/>
          </a:prstGeom>
          <a:ln w="0">
            <a:noFill/>
          </a:ln>
        </p:spPr>
      </p:pic>
      <p:pic>
        <p:nvPicPr>
          <p:cNvPr id="59" name="5 Imagen" descr=""/>
          <p:cNvPicPr/>
          <p:nvPr/>
        </p:nvPicPr>
        <p:blipFill>
          <a:blip r:embed="rId3"/>
          <a:stretch/>
        </p:blipFill>
        <p:spPr>
          <a:xfrm>
            <a:off x="5400720" y="2519280"/>
            <a:ext cx="1577880" cy="2160720"/>
          </a:xfrm>
          <a:prstGeom prst="rect">
            <a:avLst/>
          </a:prstGeom>
          <a:ln w="0">
            <a:noFill/>
          </a:ln>
        </p:spPr>
      </p:pic>
      <p:pic>
        <p:nvPicPr>
          <p:cNvPr id="60" name="6 Imagen" descr=""/>
          <p:cNvPicPr/>
          <p:nvPr/>
        </p:nvPicPr>
        <p:blipFill>
          <a:blip r:embed="rId4"/>
          <a:stretch/>
        </p:blipFill>
        <p:spPr>
          <a:xfrm>
            <a:off x="7559640" y="2519280"/>
            <a:ext cx="1398600" cy="2160720"/>
          </a:xfrm>
          <a:prstGeom prst="rect">
            <a:avLst/>
          </a:prstGeom>
          <a:ln w="0">
            <a:noFill/>
          </a:ln>
        </p:spPr>
      </p:pic>
      <p:pic>
        <p:nvPicPr>
          <p:cNvPr id="61" name="7 Imagen" descr=""/>
          <p:cNvPicPr/>
          <p:nvPr/>
        </p:nvPicPr>
        <p:blipFill>
          <a:blip r:embed="rId5"/>
          <a:stretch/>
        </p:blipFill>
        <p:spPr>
          <a:xfrm>
            <a:off x="1120680" y="5040360"/>
            <a:ext cx="1579680" cy="2158920"/>
          </a:xfrm>
          <a:prstGeom prst="rect">
            <a:avLst/>
          </a:prstGeom>
          <a:ln w="0">
            <a:noFill/>
          </a:ln>
        </p:spPr>
      </p:pic>
      <p:pic>
        <p:nvPicPr>
          <p:cNvPr id="62" name="8 Imagen" descr=""/>
          <p:cNvPicPr/>
          <p:nvPr/>
        </p:nvPicPr>
        <p:blipFill>
          <a:blip r:embed="rId6"/>
          <a:stretch/>
        </p:blipFill>
        <p:spPr>
          <a:xfrm>
            <a:off x="3328920" y="5040360"/>
            <a:ext cx="1711440" cy="2158920"/>
          </a:xfrm>
          <a:prstGeom prst="rect">
            <a:avLst/>
          </a:prstGeom>
          <a:ln w="0">
            <a:noFill/>
          </a:ln>
        </p:spPr>
      </p:pic>
      <p:pic>
        <p:nvPicPr>
          <p:cNvPr id="63" name="9 Imagen" descr=""/>
          <p:cNvPicPr/>
          <p:nvPr/>
        </p:nvPicPr>
        <p:blipFill>
          <a:blip r:embed="rId7"/>
          <a:stretch/>
        </p:blipFill>
        <p:spPr>
          <a:xfrm>
            <a:off x="5580000" y="5040360"/>
            <a:ext cx="1619280" cy="2340000"/>
          </a:xfrm>
          <a:prstGeom prst="rect">
            <a:avLst/>
          </a:prstGeom>
          <a:ln w="0">
            <a:noFill/>
          </a:ln>
        </p:spPr>
      </p:pic>
      <p:pic>
        <p:nvPicPr>
          <p:cNvPr id="64" name="10 Imagen" descr=""/>
          <p:cNvPicPr/>
          <p:nvPr/>
        </p:nvPicPr>
        <p:blipFill>
          <a:blip r:embed="rId8"/>
          <a:stretch/>
        </p:blipFill>
        <p:spPr>
          <a:xfrm>
            <a:off x="7559640" y="5040360"/>
            <a:ext cx="1440000" cy="2158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283680"/>
            <a:ext cx="907236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23b8dc"/>
                </a:solidFill>
                <a:latin typeface="Verdana"/>
              </a:rPr>
              <a:t>ISOP</a:t>
            </a:r>
            <a:br>
              <a:rPr sz="4400"/>
            </a:br>
            <a:r>
              <a:rPr b="0" lang="es-ES" sz="4000" spc="-1" strike="noStrike">
                <a:solidFill>
                  <a:srgbClr val="00cccc"/>
                </a:solidFill>
                <a:latin typeface="Verdana"/>
              </a:rPr>
              <a:t> </a:t>
            </a:r>
            <a:r>
              <a:rPr b="0" lang="es-ES" sz="4000" spc="-1" strike="noStrike" u="sng">
                <a:solidFill>
                  <a:srgbClr val="00cccc"/>
                </a:solidFill>
                <a:uFillTx/>
                <a:latin typeface="Verdana"/>
              </a:rPr>
              <a:t>BIOGRAFIA D'UN GRAN AUTOR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79640" y="1979640"/>
            <a:ext cx="594036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IsOp (Esopo en castellà) era un home esclau, que com la seva reputació era força bona a causa de les faules que escrivia, va ser alliberat pel seu amo Jadmó. Era un senyor grec faulista, nascut a Frígia. Les seves faules, estaven protagonitzades per animals, i mostraven a la gent, les virtuts que s’han de tenir a la vida, del dia a dia. El nom Isop ve d'un riu també anomenat igual, hi han vàries places i carrers amb aquest nom, fent honor a l'antic faulista gr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3 Imagen" descr=""/>
          <p:cNvPicPr/>
          <p:nvPr/>
        </p:nvPicPr>
        <p:blipFill>
          <a:blip r:embed="rId1"/>
          <a:stretch/>
        </p:blipFill>
        <p:spPr>
          <a:xfrm>
            <a:off x="539640" y="1979640"/>
            <a:ext cx="3240360" cy="4860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72360" cy="64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cccc"/>
                </a:solidFill>
                <a:latin typeface="Verdana"/>
                <a:ea typeface="Lucida Sans Unicode"/>
              </a:rPr>
              <a:t>F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72360" cy="64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dcff"/>
                </a:solidFill>
                <a:latin typeface="Verdana"/>
                <a:ea typeface="Lucida Sans Unicode"/>
              </a:rPr>
              <a:t>LA LLEBRE I LA TORT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60000" y="360000"/>
            <a:ext cx="9070920" cy="34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En el món dels animals vivia una llebre molt orgullosa, perquè davant de tots deia que era la més veloç. Per això, constantment es reia de la lenta tortu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- Mireu la tortuga! Ei, tortuga, no corris tant que et cansaràs d'anar tan de pressa! -Deia la llebre rient de la tortu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2 Imagen" descr=""/>
          <p:cNvPicPr/>
          <p:nvPr/>
        </p:nvPicPr>
        <p:blipFill>
          <a:blip r:embed="rId1"/>
          <a:stretch/>
        </p:blipFill>
        <p:spPr>
          <a:xfrm>
            <a:off x="2795760" y="4083120"/>
            <a:ext cx="375732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31640" y="466200"/>
            <a:ext cx="9071280" cy="37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Un dia, conversant entre elles, a la tortuga se li va ocórrer de sobte fer-li una rara juguesca a la lle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-Estic segura de poder guanyar-te una carrera!-li va 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- ¿A mi? -Va preguntar, sorpresa, la lle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2 Imagen" descr=""/>
          <p:cNvPicPr/>
          <p:nvPr/>
        </p:nvPicPr>
        <p:blipFill>
          <a:blip r:embed="rId1"/>
          <a:stretch/>
        </p:blipFill>
        <p:spPr>
          <a:xfrm>
            <a:off x="2879640" y="3616200"/>
            <a:ext cx="4238640" cy="3764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68000" y="725400"/>
            <a:ext cx="9070920" cy="55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-Doncs sí, a tu. Posem la nostra aposta en aquella pedra i vegem qui guanya la cur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a llebre, molt divertida, va accep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Tots els animals es van reunir per presenciar la carrera. Es va assenyalar quin seria el camí i l'arribada. Una vegada va estar llest, va començar la carrera entre grans aplaudi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8ff"/>
                </a:solidFill>
                <a:latin typeface="Verdana"/>
                <a:ea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7092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Després, va començar a córrer. Corria veloç com el vent mentre la tortuga anava poc a poc, però, això sí, sense parar. De seguida, la llebre es va avançar molt. Es va aturar al costat del camí i es va asseure a descans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Quan la tortuga va passar pel seu costat, la llebre va aprofitar per burlar-se d'ella una vegada més. Li va deixar avantatge i novament va emprendre la seva veloç marx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2 Imagen" descr=""/>
          <p:cNvPicPr/>
          <p:nvPr/>
        </p:nvPicPr>
        <p:blipFill>
          <a:blip r:embed="rId1"/>
          <a:stretch/>
        </p:blipFill>
        <p:spPr>
          <a:xfrm>
            <a:off x="2735280" y="4643280"/>
            <a:ext cx="4245120" cy="2678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8920" y="-655560"/>
            <a:ext cx="6551640" cy="89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Diverses vegades va repetir el mateix, però, malgrat les seves rialles, la tortuga va seguir caminant sense aturar-se. Confiada en la seva velocitat, la llebre es va ajeure sota un arbre i aquí es va quedar adorm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Mentrestant, a poc a poc, i tan lleugera com va poder, la tortuga va seguir el seu camí fins arribar a la meta. Quan la llebre es va despertar, va córrer amb totes les seves forces però ja era massa tard, la tortuga havia guanyat la carr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2 Imagen" descr=""/>
          <p:cNvPicPr/>
          <p:nvPr/>
        </p:nvPicPr>
        <p:blipFill>
          <a:blip r:embed="rId1"/>
          <a:stretch/>
        </p:blipFill>
        <p:spPr>
          <a:xfrm>
            <a:off x="6840360" y="900000"/>
            <a:ext cx="3059280" cy="594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8000" y="360360"/>
            <a:ext cx="9070920" cy="64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Aquell dia va ser molt trist per la llebre i va aprendre una lliçó que no oblidaria mai: Mai no cal burlar-se dels alt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8ff"/>
                </a:solidFill>
                <a:latin typeface="Verdana"/>
                <a:ea typeface="Lucida Sans Unicode"/>
              </a:rPr>
              <a:t>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99ff"/>
                </a:solidFill>
                <a:latin typeface="Verdana"/>
                <a:ea typeface="Lucida Sans Unicode"/>
              </a:rPr>
              <a:t>·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També d'això hem d'aprendre que la mandra i l'excés de confiança poden fer-nos no aconseguir els nostres objecti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03280" y="900000"/>
            <a:ext cx="903600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questa faula és bastant popular.  Com podeu veure en l’animació de Dis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4 Imagen" descr=""/>
          <p:cNvPicPr/>
          <p:nvPr/>
        </p:nvPicPr>
        <p:blipFill>
          <a:blip r:embed="rId1"/>
          <a:stretch/>
        </p:blipFill>
        <p:spPr>
          <a:xfrm>
            <a:off x="2160720" y="3924360"/>
            <a:ext cx="538308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17:08:46Z</dcterms:created>
  <dc:creator/>
  <dc:description/>
  <dc:language>en-US</dc:language>
  <cp:lastModifiedBy>Margalida</cp:lastModifiedBy>
  <dcterms:modified xsi:type="dcterms:W3CDTF">2011-10-20T00:55:57Z</dcterms:modified>
  <cp:revision>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