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945-C411-46D7-B96F-92744ECE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F63-C845-405B-83F4-FA76CB1D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798-B1BF-425C-A9B4-9FA9FC6B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00E-7C94-416A-A41B-AAB46289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199-40C2-40C3-8C0B-CEE5A3C3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391-538D-48B8-940F-60B75041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A7B-B2B9-44F3-80F2-76D3733A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FEE-C9EA-45F4-BAEF-55718CC7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BAE-F415-4F92-998D-1CAC5A93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535-3C93-4914-B50B-315F0BF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28F-E915-44E1-BE5B-376068EB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523-1D62-47BE-B500-ED1C681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9FFE-E6A0-499F-A84D-F2DA40AB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39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audeamus igi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uvenes dum su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audeamus igitu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uvenes dum su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ost iucundam iuventu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ost molestam senectu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s habebit hu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s habebit hu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981000"/>
            <a:ext cx="4032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udim, don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ntre som joves. (b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rés de l’alegre joventu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rés de la molesta vel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s tindrà la terra(b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260280"/>
            <a:ext cx="381636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GAUDEAMUS IGI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11667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137440" cy="6597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4038480" cy="452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Habeo vaccam la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n est vacca qualiscumq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eambulat per pratera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ecat muscas cum rab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olonem, tol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olonem, tolone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404640"/>
            <a:ext cx="3466800" cy="60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A LA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кαλα χριστουγεννα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ON NA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820360" cy="5873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84720" y="765000"/>
            <a:ext cx="5032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e10f"/>
                </a:solidFill>
                <a:latin typeface="Arial"/>
              </a:rPr>
              <a:t>ANNVM NOVVM FAVSTUM FELICEM TIBI PREC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1:32:06Z</dcterms:created>
  <dc:creator>Greta Garbo</dc:creator>
  <dc:description/>
  <dc:language>en-US</dc:language>
  <cp:lastModifiedBy>Greta Garbo</cp:lastModifiedBy>
  <dcterms:modified xsi:type="dcterms:W3CDTF">2010-12-21T11:59:00Z</dcterms:modified>
  <cp:revision>2</cp:revision>
  <dc:subject/>
  <dc:title>Diapositiva 1</dc:title>
</cp:coreProperties>
</file>