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DCF-32C1-4426-BF96-88D3965F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B4C-1A52-4084-9401-15BDFACC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015-1920-4402-A055-0E43BFE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C51-81EB-46AC-8C69-A922D59F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633-851C-4C54-ADAA-B93FBC0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AE7-CFB1-471C-9CC7-DE7C0E4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B11-845E-4D6F-874C-A2EAF94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3BD-8F2E-4342-9E58-AD3E7F78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741-2674-4182-AC87-7208F796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ACE-C126-4DF4-8921-99A22AB8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0C6-B8D7-4B02-B316-FC1D217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691-416B-4C8E-A22C-490D488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589E-9D4C-4075-A3C4-68D82D0C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53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 u="sng">
                <a:solidFill>
                  <a:srgbClr val="000000"/>
                </a:solidFill>
                <a:uFillTx/>
                <a:latin typeface="Blackadder ITC"/>
              </a:rPr>
              <a:t>Mitologia greg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Hèstia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4197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dit Vilan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r Cultura Clàs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m grec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Hèst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Nom llatí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: V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f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eneologia: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Era la filla gran dels titans Cronos i 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Hèstia, </a:t>
            </a:r>
            <a:br>
              <a:rPr sz="2400"/>
            </a:b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La deessa de la lla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1600200"/>
            <a:ext cx="2116080" cy="4343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71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Domini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Hi havia diversos temples arreu del territori grec en honor a Hèstia, on els ambaixadors estrangers hi trobaven asil i un lloc per retre culte als déus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Caràcter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:   Era protectora i treballadora.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Gestes: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va ser la inventora de la construc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de cases i la protectora dels sentiments m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íntims i profunds i, a més a més, d'ella depe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que hi hagués harmonia tant en el matrimo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om en les cases i les ciutats. Al cap dels any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va acabar portant l'harmonia arreu de l'univers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443320" cy="3505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59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ècdotes: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Era l’encarregada de protegir el foc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agrat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considerat pels homes com un símbol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de la seva vitalitat i força. Si el foc s’apagues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lgun mal irreparable els hi passaria.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això, la seva feina era d'una gran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responsabilitat, i, per poder-la dur a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erme de manera plenament satisfactòria,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havia de prescindir de lligams i passions.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És aquesta l'explicació de la seva puresa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 la seva virginitat. Tot i així, de vegades ho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havia passat molt malament, ja que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havia tingut com a pretendents déus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an atractius com Apol·lo o Posidó; però sempre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mantenia la seva castedat gràcies a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l'ajut del seu germà Zeus, cosa que us pot 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tranyar si tenim en compte que era el més</a:t>
            </a: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faldiller i enamoradís d'entre els déus i els mortals.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-Tot i ser una deessa, no era perfecta, de manera que per protegir el foc tenia unes dames joves, les vestals, el protagonisme de les quals va ser molt important en l'antiguitat a Roma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276720" cy="467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6858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447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447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1337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os tit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20040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557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ls d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952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ès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952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952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è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952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1447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86400" y="358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267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4952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0" name=""/>
          <p:cNvSpPr/>
          <p:nvPr/>
        </p:nvSpPr>
        <p:spPr>
          <a:xfrm>
            <a:off x="3886200" y="3352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3352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1523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523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galida Capellà</cp:lastModifiedBy>
  <dcterms:modified xsi:type="dcterms:W3CDTF">2008-03-04T15:22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