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D898-6E25-4A8C-8D9D-688A437B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1818-58C3-4CC0-8F55-446834D3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95A7-178A-4752-A690-78053B4C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5D9F-5DD8-4E2B-8F1E-EEF6B7D7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AC71-3B3E-40E2-A383-7F10C445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AA39-DC57-4361-B8F8-342EE23E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9D37-C9B8-4B80-8E59-3954E7F4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78E-AC21-4E53-9BD8-68A2DFE2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8BAE-CB03-492B-AFBE-05D2807F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EC05-FFB8-46E9-82CE-5BCFEF11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754-FCAE-4802-A56E-3EA09227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8BD5-AECC-4BC1-938B-E06F72BF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d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B807-4C14-412E-8240-2D2DD693F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a.wikipedia.org/w/index.php?title=D&#233;us_Ol&#237;mpics&amp;action=edit" TargetMode="External"/><Relationship Id="rId2" Type="http://schemas.openxmlformats.org/officeDocument/2006/relationships/hyperlink" Target="http://ca.wikipedia.org/wiki/Deessa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d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96000" y="-675000"/>
            <a:ext cx="4248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MITOLOGIA GRECO-ROMA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96000" y="2420640"/>
            <a:ext cx="2944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-Demè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Sara Rod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Cultura Clàss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3r 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IES Cristòfol Fer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5113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d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79280" y="476280"/>
            <a:ext cx="8748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a-ES" sz="2400" spc="-1" strike="noStrike">
                <a:solidFill>
                  <a:srgbClr val="000000"/>
                </a:solidFill>
                <a:latin typeface="Comic Sans MS"/>
              </a:rPr>
              <a:t>-NOM GREC</a:t>
            </a:r>
            <a:r>
              <a:rPr b="0" lang="ca-ES" sz="2400" spc="-1" strike="noStrike">
                <a:solidFill>
                  <a:srgbClr val="000000"/>
                </a:solidFill>
                <a:latin typeface="Comic Sans MS"/>
              </a:rPr>
              <a:t>. Demèter.</a:t>
            </a:r>
            <a:r>
              <a:rPr b="1" lang="ca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a-ES" sz="2400" spc="-1" strike="noStrike">
                <a:solidFill>
                  <a:srgbClr val="000000"/>
                </a:solidFill>
                <a:latin typeface="Comic Sans MS"/>
              </a:rPr>
              <a:t>L’anomenen</a:t>
            </a:r>
            <a:r>
              <a:rPr b="1" lang="ca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a-ES" sz="2400" spc="-1" strike="noStrike">
                <a:solidFill>
                  <a:srgbClr val="000000"/>
                </a:solidFill>
                <a:latin typeface="Comic Sans MS"/>
              </a:rPr>
              <a:t>«deessa mare» o «mare distribuïdora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a-ES" sz="2400" spc="-1" strike="noStrike">
                <a:solidFill>
                  <a:srgbClr val="000000"/>
                </a:solidFill>
                <a:latin typeface="Comic Sans MS"/>
              </a:rPr>
              <a:t>-NOM LLATÍ. </a:t>
            </a:r>
            <a:r>
              <a:rPr b="0" lang="ca-ES" sz="2400" spc="-1" strike="noStrike">
                <a:solidFill>
                  <a:srgbClr val="000000"/>
                </a:solidFill>
                <a:latin typeface="Comic Sans MS"/>
              </a:rPr>
              <a:t>Ceres (d’aquí prové el mot “cereal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a-ES" sz="2400" spc="-1" strike="noStrike">
                <a:solidFill>
                  <a:srgbClr val="000000"/>
                </a:solidFill>
                <a:latin typeface="Comic Sans MS"/>
              </a:rPr>
              <a:t>-ATRIBUTS.</a:t>
            </a:r>
            <a:r>
              <a:rPr b="0" lang="ca-ES" sz="2400" spc="-1" strike="noStrike">
                <a:solidFill>
                  <a:srgbClr val="000000"/>
                </a:solidFill>
                <a:latin typeface="Comic Sans MS"/>
              </a:rPr>
              <a:t> Se la venera com la portadora de les estacions en un himne homèric, un subtil signe que demostra que era adorada molt abans de l'arribada dels </a:t>
            </a:r>
            <a:r>
              <a:rPr b="0" lang="ca-ES" sz="24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olímpics</a:t>
            </a:r>
            <a:r>
              <a:rPr b="0" lang="ca-E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a-ES" sz="2400" spc="-1" strike="noStrike">
                <a:solidFill>
                  <a:srgbClr val="000000"/>
                </a:solidFill>
                <a:latin typeface="Comic Sans MS"/>
              </a:rPr>
              <a:t>-DOMINI.</a:t>
            </a:r>
            <a:r>
              <a:rPr b="0" lang="ca-ES" sz="2400" spc="-1" strike="noStrike">
                <a:solidFill>
                  <a:srgbClr val="000000"/>
                </a:solidFill>
                <a:latin typeface="Comic Sans MS"/>
              </a:rPr>
              <a:t>  És la </a:t>
            </a:r>
            <a:r>
              <a:rPr b="0" lang="ca-ES" sz="24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deessa</a:t>
            </a:r>
            <a:r>
              <a:rPr b="0" lang="ca-ES" sz="2400" spc="-1" strike="noStrike">
                <a:solidFill>
                  <a:srgbClr val="000000"/>
                </a:solidFill>
                <a:latin typeface="Comic Sans MS"/>
              </a:rPr>
              <a:t> de l'agricultura, substància  pura de la terra verda i jove, vivificadora del cicle de la vida i la mort, i protectora del matrimoni i la llei sag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d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685800"/>
            <a:ext cx="8352000" cy="46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omic Sans MS"/>
              </a:rPr>
              <a:t>-FAMÍ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mic Sans MS"/>
              </a:rPr>
              <a:t>Demèter és la filla de Cronos i Rea. I la filla de Demèter és Persèfone, però només la pot veure sis mesos l’any. Perquè un dia Persèfone passejava pels prats collint flors, va ser raptada per Hades i la va portar als seus dominis subterranis. Demèter va abandonar l’Olimp i la va buscar per tots els llocs, però no la trobava i va fer que les terres no fossin productives, es podia estingir la humanitat, així que Zeus es va preocupar i li va demanar que tornés a l’Olimp</a:t>
            </a:r>
            <a:r>
              <a:rPr b="0" lang="ca-E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d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685800"/>
            <a:ext cx="8352000" cy="46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omic Sans MS"/>
              </a:rPr>
              <a:t>-FAMÍ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omic Sans MS"/>
              </a:rPr>
              <a:t>Però aquesta va dir que sense la seva filla no tornaria, i Hermes va baixar fins al Tàrtar a exigir a Hades que alliberés Persèfone. Però aquell qui menja en els dominis ja no pot sortir d’allà, i Hades va fer que Persèfone mengés sis grans de magrana, així va fer que es quedés allà per sempre. Però van arribar a un acord, i Persèfone podia passar sis mesos, primavera i estiu, amb Demèter i els altres sis mesos, tardor i  hivern, amb H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d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143000"/>
            <a:ext cx="822960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Comic Sans MS"/>
              </a:rPr>
              <a:t>-CARÀCTER. </a:t>
            </a:r>
            <a:r>
              <a:rPr b="0" lang="ca-ES" sz="2400" spc="-1" strike="noStrike">
                <a:solidFill>
                  <a:srgbClr val="000000"/>
                </a:solidFill>
                <a:latin typeface="Comic Sans MS"/>
              </a:rPr>
              <a:t>Tot era entorn si ella era feliç o no. Les terres podien tenir molt de profit quan ella era feliç, al costat de la seva filla, però quan estava trista, cap terra era productiva, podia sembrar el ca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omic Sans MS"/>
              </a:rPr>
              <a:t>-GENEALOGIA.</a:t>
            </a:r>
            <a:r>
              <a:rPr b="0" lang="ca-ES" sz="2400" spc="-1" strike="noStrike">
                <a:solidFill>
                  <a:srgbClr val="000000"/>
                </a:solidFill>
                <a:latin typeface="Comic Sans MS"/>
              </a:rPr>
              <a:t>  La mitologia romana associava  Demèter a Ceres. Quan es va donar a Demèter una genealogia, es va dir que era filla de Cronos i Rea, i per tant germana gran de Zeus. A les seves sacerdotesses, se'ls donava el títol de Meli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d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762120"/>
            <a:ext cx="822960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omic Sans MS"/>
              </a:rPr>
              <a:t>-AMORS.  </a:t>
            </a:r>
            <a:r>
              <a:rPr b="0" lang="ca-ES" sz="2400" spc="-1" strike="noStrike">
                <a:solidFill>
                  <a:srgbClr val="000000"/>
                </a:solidFill>
                <a:latin typeface="Comic Sans MS"/>
              </a:rPr>
              <a:t>Posidó es va enamorar d’ella, però ella el trovaba molt pesat. Com no la deixava tranquil·la, se li va acudir transformar-se en una euga, però ell la va descobrir i es va tranformar en un cavall.  Demèter el va considerar tan bell que va accedir a tots els seus favors, fins que d’aquesta unió va sortir Arió, el cavall més ràpid del m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d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19640" y="260280"/>
            <a:ext cx="3645000" cy="6400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464000" cy="4616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4876920"/>
            <a:ext cx="49528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filla de Demèter, Persèfone, raptada per Ha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4952880" y="571500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2"/>
                </a:moveTo>
                <a:lnTo>
                  <a:pt x="17806" y="11788"/>
                </a:lnTo>
                <a:lnTo>
                  <a:pt x="3794" y="187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emè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3:13:31Z</dcterms:created>
  <dc:creator>Sara</dc:creator>
  <dc:description/>
  <dc:language>en-US</dc:language>
  <cp:lastModifiedBy>MARGA</cp:lastModifiedBy>
  <dcterms:modified xsi:type="dcterms:W3CDTF">2008-03-22T19:18:32Z</dcterms:modified>
  <cp:revision>7</cp:revision>
  <dc:subject/>
  <dc:title>MITOLOGIA GRECO-ROMANA</dc:title>
</cp:coreProperties>
</file>