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3E6C-DADC-4F54-BF59-8956551B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B85-B80C-4FC7-9BB0-C82897CD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A54-C6E6-4484-A68C-2EDCF629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8DD-C05C-4415-8568-52AA22FE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C28A-DBEA-4B0D-ABC8-F325DC5E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D0A0-3638-4840-9442-90F469D5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553A-2C37-42FC-80AA-E13B2BCA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C307-E918-4FE1-83F8-F327616D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997A-1129-49FB-B9B5-5E0493E6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4E37-59D4-4727-810C-D08F5EEA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AAE9-C86D-4D96-9B3A-27FE1213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6B30-97D2-4777-8D4C-B6D208AC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4EF3-9058-4B8F-85D3-4369C1F4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2B88-8C75-49CB-BA36-D4D755BC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87BE-6458-44EB-A337-92393CD6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D35B-B403-4ADE-8922-F4847E28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46F8-142F-4FCE-BFE4-47FD0A77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3DD-6005-44B3-9DFE-5995BCC1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EEE6-EE35-4717-BA69-C6A335DE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F9B-DF81-4C82-8462-5CFCEF93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1A6F-D08A-4794-8A1F-28CC6566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4A1A-B82C-4DB0-A1B2-5B622335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613-FCEC-43B7-9CB5-E614A413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87D-7F29-4C4A-BE6B-82E6F460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5027-4D1E-4499-A6C7-77CA19C896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6608-B084-44A6-9B6E-CA322AADE7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846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006666"/>
                </a:solidFill>
                <a:latin typeface="Arial"/>
              </a:rPr>
              <a:t>¡LAETUM FESTUM NATIVITATIS ET FAUSTUM NOVUM ANNUM, MAGISTRA ANNA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08000" y="4581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451640" y="18900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372360" y="5229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580000" y="242100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3059280" y="3213000"/>
            <a:ext cx="3046320" cy="3141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395280" y="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7380360" y="3573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7745400" y="4724280"/>
            <a:ext cx="1398600" cy="1630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7740720" y="170028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755640" y="55897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000" y="6381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6666"/>
                </a:solidFill>
                <a:latin typeface="Cooper Black"/>
              </a:rPr>
              <a:t>Marc Pasc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7:49:31Z</dcterms:created>
  <dc:creator>WinuE</dc:creator>
  <dc:description/>
  <dc:language>en-US</dc:language>
  <cp:lastModifiedBy>WinuE</cp:lastModifiedBy>
  <dcterms:modified xsi:type="dcterms:W3CDTF">2012-12-19T17:58:23Z</dcterms:modified>
  <cp:revision>2</cp:revision>
  <dc:subject/>
  <dc:title>¡LAETUM FESTUM NATIVITATIS ET FAUSTUM NOVUM ANNUM, MAGISTRA ANNA!</dc:title>
</cp:coreProperties>
</file>