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B5F-15A7-443C-95AE-59CD0D07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B55-26EC-4183-84C9-11C29C7B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263-55F2-4C28-ACDC-40C25D6F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0AA-4C90-4266-A289-B45BB995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8F4B-5F59-4956-B6CF-851AFDC8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3F2D-E845-4E7F-8E2C-1E7FF08F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1879-3B25-4C31-ACA4-5D2F8CDF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811B-1A7D-4454-ACCD-B42162D0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B7A1-B918-4B14-9FDE-2BD20E24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6CAC-6C87-4120-BF36-1EFD3712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907F-782E-448C-8254-5D84199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3AE-9CDF-49A3-BBB4-A4E096D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760A-5863-4FED-ADB5-BAAC767B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B0E6-6BCF-4FED-93CF-2316904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31C5-7249-40AE-AA1C-A1D2B989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C7C3-4DC4-4B88-AB9B-39D1C7F8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E6BA-4855-4475-B415-3B00B2E1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9B3-4758-450A-B740-813B7D0E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936-2DAE-416B-B209-0EFD148F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3FE-97BC-4875-BBB6-5508FA6A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B82-748D-4276-876A-C935116C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6EB-33B7-4269-BF52-1C2E879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105-02A5-4450-8369-B251A9DA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60F-8AD4-417E-95C3-383D4C70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1CB0-E956-4496-9003-53B118A16C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A67E-AE45-4C9A-9823-228B7B9322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8000" spc="-1" strike="noStrike">
                <a:solidFill>
                  <a:srgbClr val="ffffcc"/>
                </a:solidFill>
                <a:latin typeface="Tahoma"/>
              </a:rPr>
              <a:t>FAMILIA MEA, </a:t>
            </a:r>
            <a:br>
              <a:rPr sz="8000"/>
            </a:br>
            <a:br>
              <a:rPr sz="8000"/>
            </a:br>
            <a:r>
              <a:rPr b="0" lang="ca-ES" sz="8000" spc="-1" strike="noStrike">
                <a:solidFill>
                  <a:srgbClr val="ffffcc"/>
                </a:solidFill>
                <a:latin typeface="Tahoma"/>
              </a:rPr>
              <a:t>GENS ME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59280" y="5661000"/>
            <a:ext cx="5843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Marc Pascual Sánchez, 4t ESO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92000" y="5229360"/>
            <a:ext cx="2087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cc"/>
                </a:solidFill>
                <a:latin typeface="Tahoma"/>
              </a:rPr>
              <a:t>Marc</a:t>
            </a:r>
            <a:br>
              <a:rPr sz="4800"/>
            </a:br>
            <a:r>
              <a:rPr b="0" lang="ca-ES" sz="2400" spc="-1" strike="noStrike">
                <a:solidFill>
                  <a:srgbClr val="ffffcc"/>
                </a:solidFill>
                <a:latin typeface="Tahoma"/>
              </a:rPr>
              <a:t>Pascual Sánchez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22320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Tahoma"/>
              </a:rPr>
              <a:t>MªDolores Sánchez Serran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765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Antonio Sánch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50028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Jordi Pascual Sau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77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Dolores Serrano Alcara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1700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Antonio Sánchez Martín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Maria Alcar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76500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Francisco Ser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765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Rosario Martín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1700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è Saüc Seg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76500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ncepció Segura Cabasta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76500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Jaume Sau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8720" y="170028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Jordi Pascual G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76500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Dolores Gou Pe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765000"/>
            <a:ext cx="86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Francisco Pascual St.Feli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26828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26828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413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2000" y="1341360"/>
            <a:ext cx="0" cy="35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133720"/>
            <a:ext cx="792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1337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2133720"/>
            <a:ext cx="1081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2133720"/>
            <a:ext cx="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3860640"/>
            <a:ext cx="23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60640"/>
            <a:ext cx="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692000" y="4653000"/>
            <a:ext cx="28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465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4941720"/>
            <a:ext cx="115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ffffff"/>
                </a:solidFill>
                <a:latin typeface="Tahoma"/>
              </a:rPr>
              <a:t>Denis Pascual Sánch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184464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V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184464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V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573360"/>
            <a:ext cx="79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AREN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365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FRA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Mayre m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5300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a est 54 annorum. Ipsa fuit 39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22464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ordi p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e est 47 annorum. Ipse fuit 32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28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Denis fr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5373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e est 19 annorum. Ipse fuit 4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2408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7:57:07Z</dcterms:created>
  <dc:creator>WinuE</dc:creator>
  <dc:description/>
  <dc:language>en-US</dc:language>
  <cp:lastModifiedBy>WinuE</cp:lastModifiedBy>
  <dcterms:modified xsi:type="dcterms:W3CDTF">2012-11-25T19:46:20Z</dcterms:modified>
  <cp:revision>5</cp:revision>
  <dc:subject/>
  <dc:title>Marc</dc:title>
</cp:coreProperties>
</file>