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3D1-8E8D-4D76-8512-7AB14955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4B4-CDB3-4FDA-839E-6BCE16D2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B66-CB5A-41FE-A79D-7F3F478F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21F-873F-4DB0-A12E-DCB5788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44C8-B4A9-4FEB-8145-44AB7CF3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012A-16E5-4037-B04E-1B89325F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3A5F-CEBD-4B08-A18F-DEC38CA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17B-113A-44FC-98AA-28735E0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BA6F-2107-496E-A825-9D1C12E4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E45A-56EC-45F6-8E7E-278C9C5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814E-CAE4-44C6-A4F0-DAEBF24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1DD-C2B9-4302-85F2-549726B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601-1986-48E5-9F91-09B2AA3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4A6-8765-4EC2-AE30-8C8EF1F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9BE-9E26-4A7F-89A5-FE89905C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8EA2-57AB-44C0-B6C5-59E09E48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C960-11E5-4EBD-B53F-B51AC5D9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1A7-A490-4EE2-AB8B-9FB51534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F48-5459-493C-AD13-9FA32392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1DB-EEFB-4B64-9CFA-0AEC018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6D5-84CE-4750-9A50-DB400CA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A6F-7796-43CC-9F90-F63A82C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EAE-5302-4B63-9AF0-EE5468D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117-7977-4DE5-9FC0-F87926E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271-C868-4C10-A1AB-A72A3C32E824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2F58-84DB-4C06-80FC-4A0FC273F905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1640" y="558972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                                  </a:t>
            </a: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Silvina Delmonte 4ºD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                         </a:t>
            </a:r>
            <a:r>
              <a:rPr b="1" lang="es-ES" sz="1200" spc="-1" strike="noStrike">
                <a:solidFill>
                  <a:srgbClr val="000066"/>
                </a:solidFill>
                <a:latin typeface="Verdana"/>
              </a:rPr>
              <a:t>Optativa 3: Llatí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56000" y="1989000"/>
            <a:ext cx="424800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>
                    <a:alphaModFix amt="84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amilia mea!</a:t>
            </a:r>
            <a:endParaRPr b="1" lang="en-US" sz="44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blipFill rotWithShape="0">
                <a:blip r:embed="rId2">
                  <a:alphaModFix amt="84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0" spc="-1" strike="noStrike" u="sng">
                <a:solidFill>
                  <a:srgbClr val="000066"/>
                </a:solidFill>
                <a:uFillTx/>
                <a:latin typeface="Vijaya"/>
              </a:rPr>
              <a:t>Ego sum Silvina!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abito in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Nascere in Uruguay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Ego studeo 4tESO D, in Institut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58292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140360" y="4149720"/>
            <a:ext cx="4679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Daniel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Daniel pater meus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Uruguay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3564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Luisa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uisa mater mea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Premià de Mar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6006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66"/>
                </a:solidFill>
                <a:uFillTx/>
                <a:latin typeface="Vijaya"/>
              </a:rPr>
              <a:t>Leandro</a:t>
            </a:r>
            <a:endParaRPr b="0" lang="en-US" sz="8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eandro frater meus est.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habita in Premià de Mar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Hic studea sextus annus in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s-ES" sz="2200" spc="-1" strike="noStrike">
                <a:solidFill>
                  <a:srgbClr val="000066"/>
                </a:solidFill>
                <a:latin typeface="Verdana"/>
              </a:rPr>
              <a:t>La Lió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3529080" cy="235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7:05:16Z</dcterms:created>
  <dc:creator>Silvina</dc:creator>
  <dc:description/>
  <dc:language>en-US</dc:language>
  <cp:lastModifiedBy>Silvina</cp:lastModifiedBy>
  <dcterms:modified xsi:type="dcterms:W3CDTF">2012-11-11T18:45:51Z</dcterms:modified>
  <cp:revision>2</cp:revision>
  <dc:subject/>
  <dc:title>Diapositiva 1</dc:title>
</cp:coreProperties>
</file>