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3F9-744B-4BD7-B1F8-EC37298F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D54-0217-4D23-B3A6-BF77B04B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C54-8DD3-485A-81A9-5130AA31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FCC-45DB-4278-94B9-DE5FDE83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BD1B-D5A7-4F4B-AD75-03AF51F2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9316-8C8A-4093-B184-DA55046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431F-544B-48BC-8978-E548594E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8FFD-39BD-4F81-91D7-73889448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683E-E73E-457F-9540-07942D4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140A-9C24-40CD-975B-28722928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5471-8ED9-4D8B-A1AA-5D21CE3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5BE-09EF-456F-BEBD-EDE2E1A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29E1-A6BA-45CD-9361-1DEA373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71F2-C618-4FA4-B0D5-E299F70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D5E-0DB4-4774-9C34-86251D1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6CB8-6776-4F7B-B2D1-3BCF3412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4D11-AE07-4038-921B-559A4FD4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1F2-CF93-4865-A6C1-AE6612B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4F8-3C9A-44A3-9A55-5100A596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BDB-6F0C-4100-9296-441BDBB8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D43-44A3-42D7-8757-932FB7CA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F3B-30DB-4DFB-BAA3-B9A46EE1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A34-A2F1-4CD4-AEC3-735E759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9FF-A628-4346-A2C7-3F1EA93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ED88-0983-43B8-82E2-4863D7AF20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9A9A-5C7F-42C3-8248-F5DA9C3882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FAMILIA MEA, </a:t>
            </a:r>
            <a:br>
              <a:rPr sz="8000"/>
            </a:br>
            <a:br>
              <a:rPr sz="8000"/>
            </a:br>
            <a:r>
              <a:rPr b="0" lang="ca-ES" sz="8000" spc="-1" strike="noStrike">
                <a:solidFill>
                  <a:srgbClr val="ffffcc"/>
                </a:solidFill>
                <a:latin typeface="Tahoma"/>
              </a:rPr>
              <a:t>GENS MEA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59280" y="5661000"/>
            <a:ext cx="5843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Tahoma"/>
              </a:rPr>
              <a:t>Marc Pascual Sánchez, 4t ESO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92000" y="5229360"/>
            <a:ext cx="2087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800" spc="-1" strike="noStrike">
                <a:solidFill>
                  <a:srgbClr val="ffffcc"/>
                </a:solidFill>
                <a:latin typeface="Tahoma"/>
              </a:rPr>
              <a:t>Marc</a:t>
            </a:r>
            <a:br>
              <a:rPr sz="4800"/>
            </a:br>
            <a:r>
              <a:rPr b="0" lang="ca-ES" sz="2400" spc="-1" strike="noStrike">
                <a:solidFill>
                  <a:srgbClr val="ffffcc"/>
                </a:solidFill>
                <a:latin typeface="Tahoma"/>
              </a:rPr>
              <a:t>Pascual Sánchez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2232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Tahoma"/>
              </a:rPr>
              <a:t>MªDolores Sánchez Serran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765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Antonio Sánch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350028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Jordi Pascual Sau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7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Dolores Serrano Alcar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70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Antonio Sánchez Martín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Maria Alcar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76500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Ser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76500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Rosario Martín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170028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cè Saüc Seg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76500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Concepció Segura Cabasta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765000"/>
            <a:ext cx="93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Jaume Sau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170028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Jordi Pascual G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765000"/>
            <a:ext cx="7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Dolores Gou Pe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765000"/>
            <a:ext cx="86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Arial"/>
              </a:rPr>
              <a:t>Francisco Pascual St.Feli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268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268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413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2000" y="1341360"/>
            <a:ext cx="0" cy="35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2133720"/>
            <a:ext cx="792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1337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2133720"/>
            <a:ext cx="1081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2133720"/>
            <a:ext cx="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3860640"/>
            <a:ext cx="23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60640"/>
            <a:ext cx="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92000" y="465300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465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4941720"/>
            <a:ext cx="115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400" spc="-1" strike="noStrike">
                <a:solidFill>
                  <a:srgbClr val="ffffff"/>
                </a:solidFill>
                <a:latin typeface="Tahoma"/>
              </a:rPr>
              <a:t>Denis Pascual Sánch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184464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V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357336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AREN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365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RA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Mayre m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5300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a est 54 annorum. Ipsa fuit 39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22464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Jordi p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47 annorum. Ipse fuit 32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28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cc"/>
                </a:solidFill>
                <a:latin typeface="Tahoma"/>
              </a:rPr>
              <a:t>Denis frater meus 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Tahoma"/>
              </a:rPr>
              <a:t>Ipse est 19 annorum. Ipse fuit 4 annorum cum ego natus ess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2408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7:57:07Z</dcterms:created>
  <dc:creator>WinuE</dc:creator>
  <dc:description/>
  <dc:language>en-US</dc:language>
  <cp:lastModifiedBy>WinuE</cp:lastModifiedBy>
  <dcterms:modified xsi:type="dcterms:W3CDTF">2012-11-25T19:46:20Z</dcterms:modified>
  <cp:revision>5</cp:revision>
  <dc:subject/>
  <dc:title>Marc</dc:title>
</cp:coreProperties>
</file>